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jpeg" ContentType="image/jpeg"/>
  <Override PartName="/ppt/media/image11.jpeg" ContentType="image/jpeg"/>
  <Override PartName="/ppt/media/image10.jpeg" ContentType="image/jpe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306D-AEA1-4830-92E5-D453004500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B42B-21FC-465D-A940-9F1F92088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tle links to CWS website from CB home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DCBA602A-44BA-40DE-8D79-9E1C9A5ADC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de 11 and 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erience jobs and job responsi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 or 4 cred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tr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R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e Soc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de 9’s: If taking Civics/Careers in summer school,  put these courses into grade 11 (will remove later) and this will allow you to put in another elective in grade 1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0AE9-7A24-4AD0-A193-647753D0E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F013-22E0-4CE6-B26F-D5A37A0F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4299-5759-4C1B-9E32-7ED46F4E9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A11E-8F76-487E-87C5-43D2C89E0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D4B2-9267-4EDC-9C06-F30D0EE5A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332A-CB08-4DC5-97DB-E9356DB0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58D5-6DFA-4115-870B-57CB2250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A3A9-37D8-4A91-87BC-2769216B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C22C-5B56-4E2B-ABF9-A6886BEF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DF1E-DC5B-4900-A13A-55510081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6296-3EDF-4F8E-8465-B3FC498C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FB0C-C446-4C83-91A7-04989613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6CC3-01D7-4FDD-BE62-D75DAA17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1AE2-9700-4BA1-BEF0-3F271F3B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1FC4-27B5-4E66-A12E-BF1AB90B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39E1-1C9F-4B7F-AA0E-92629079F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7A6F-4311-440E-B135-C88EF9B1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8991-9ED4-4324-8727-383D92D5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4E2E-4B1F-4EBB-B244-85C3FDD8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D7B4-4B04-4D06-8E43-E979C1B2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9AB6-E2D3-4A57-9E91-90645734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AA20-19BC-4795-9877-57CC6D5D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2477-DB24-456E-9C55-7747A10B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1FBC-C6BE-4170-9F8D-CD9F307A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7C57-75A2-4A40-9C2D-54DCD4EC3D5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31B8-CFEE-468C-9FD7-99874C051F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ontariocolleges.ca/" TargetMode="External"/><Relationship Id="rId2" Type="http://schemas.openxmlformats.org/officeDocument/2006/relationships/hyperlink" Target="http://www.electronicinfo.ca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colonelby.com/teachers/canadianandworldstudie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2.careercruising.com/default/cplogin/OCD" TargetMode="Externa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2.careercruising.com/default/cplogin/OCD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colonelby.com/" TargetMode="External"/><Relationship Id="rId2" Type="http://schemas.openxmlformats.org/officeDocument/2006/relationships/hyperlink" Target="http://ibcb.ca/ibcourseguide20142015.pdf" TargetMode="Externa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ourse Selection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2016-2017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 –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re are you going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orkplace? Complete an apprenticeship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llege? University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ork/travel? Part-time studies/work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ap year to upgrad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sider your strengths and interests when making a decis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duct some research to decide on options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 –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re are you going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COLLEG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– Earn a diploma, applied degree, collaborative progra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requisites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SSD, ENG4C, and others depending on the specific progra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rtfolios, Program tests (Math, Language, HOAE), and/or interviews are required for certain progra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pplied degree programs and collaborative programs generally have university requiremen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rticulation agreements with universities – opportunity to continue from college into degree progra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 –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re are you going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UNIVERSITY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 Earn a Bachelor’s Degre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BSc, BCom, BA, etc.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erequisites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SSD, ENG4U and specific program requiremen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 4U or 4M courses (some schools maximum of two 4M course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inimum cut-off averages in specific courses for specific progra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rtfolios, test results, and/or interviews are required for certain progra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elds of Study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Universit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457200" y="1995480"/>
            <a:ext cx="822960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 –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re are you going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www.ontariocolleges.c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www.electronicinfo.c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1048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39116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ath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57200" y="3886200"/>
          <a:ext cx="8458200" cy="157320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H - Colle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FM1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FM2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BF3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P4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380880" y="1600200"/>
          <a:ext cx="8458200" cy="157320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H - Essenti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FM1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L3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L4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ath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04920" y="3886200"/>
          <a:ext cx="8534160" cy="1886040"/>
        </p:xfrm>
        <a:graphic>
          <a:graphicData uri="http://schemas.openxmlformats.org/drawingml/2006/table">
            <a:tbl>
              <a:tblPr/>
              <a:tblGrid>
                <a:gridCol w="1706400"/>
                <a:gridCol w="1706400"/>
                <a:gridCol w="1708200"/>
                <a:gridCol w="1706760"/>
                <a:gridCol w="1706400"/>
              </a:tblGrid>
              <a:tr h="4863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H – University (Specific Program Requirement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1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2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CR3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HF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CV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DM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228600" y="1600200"/>
          <a:ext cx="8686440" cy="1904760"/>
        </p:xfrm>
        <a:graphic>
          <a:graphicData uri="http://schemas.openxmlformats.org/drawingml/2006/table">
            <a:tbl>
              <a:tblPr/>
              <a:tblGrid>
                <a:gridCol w="1736640"/>
                <a:gridCol w="1737360"/>
                <a:gridCol w="1738440"/>
                <a:gridCol w="1737360"/>
                <a:gridCol w="1736640"/>
              </a:tblGrid>
              <a:tr h="515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H - Univers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1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2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CF3M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DM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ience Optio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28600" y="1905120"/>
          <a:ext cx="8458200" cy="1693800"/>
        </p:xfrm>
        <a:graphic>
          <a:graphicData uri="http://schemas.openxmlformats.org/drawingml/2006/table">
            <a:tbl>
              <a:tblPr/>
              <a:tblGrid>
                <a:gridCol w="1690560"/>
                <a:gridCol w="1692360"/>
                <a:gridCol w="1692360"/>
                <a:gridCol w="1692360"/>
                <a:gridCol w="1690560"/>
              </a:tblGrid>
              <a:tr h="413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llege Science Pathway Op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1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2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BI3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Every other year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H4C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Every other year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228600" y="4267080"/>
          <a:ext cx="8534520" cy="2551320"/>
        </p:xfrm>
        <a:graphic>
          <a:graphicData uri="http://schemas.openxmlformats.org/drawingml/2006/table">
            <a:tbl>
              <a:tblPr/>
              <a:tblGrid>
                <a:gridCol w="1706400"/>
                <a:gridCol w="1706760"/>
                <a:gridCol w="1708200"/>
                <a:gridCol w="1706400"/>
                <a:gridCol w="1706760"/>
              </a:tblGrid>
              <a:tr h="483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iversity Science Pathway Op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9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1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2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H3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BI3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H3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H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BI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H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S4U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Every other year.  PrerequisiteSNC2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Understanding your Credit Counselling Summary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rsonal Inform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munity Involv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ntario Literacy Te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ast cour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urrent cour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aduation criter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Canadian World Studies and Humaniti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80880" y="1371600"/>
          <a:ext cx="8458200" cy="162252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413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eograph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C1P/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D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W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80880" y="5248440"/>
          <a:ext cx="8534520" cy="1609560"/>
        </p:xfrm>
        <a:graphic>
          <a:graphicData uri="http://schemas.openxmlformats.org/drawingml/2006/table">
            <a:tbl>
              <a:tblPr/>
              <a:tblGrid>
                <a:gridCol w="1706760"/>
                <a:gridCol w="1708200"/>
                <a:gridCol w="1704960"/>
                <a:gridCol w="1708200"/>
                <a:gridCol w="170640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story, Politics and La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C2P/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W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U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Y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PW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380880" y="3200400"/>
          <a:ext cx="8534520" cy="188604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708200"/>
                <a:gridCol w="1706760"/>
                <a:gridCol w="1706400"/>
              </a:tblGrid>
              <a:tr h="4863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umanit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C2P/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SP3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RT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BV3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SB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SE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r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80880" y="1371600"/>
          <a:ext cx="8458200" cy="162252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859040"/>
                <a:gridCol w="1523880"/>
              </a:tblGrid>
              <a:tr h="413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1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WP3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WM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80880" y="5248440"/>
          <a:ext cx="8534520" cy="1609560"/>
        </p:xfrm>
        <a:graphic>
          <a:graphicData uri="http://schemas.openxmlformats.org/drawingml/2006/table">
            <a:tbl>
              <a:tblPr/>
              <a:tblGrid>
                <a:gridCol w="1706760"/>
                <a:gridCol w="1708200"/>
                <a:gridCol w="1704960"/>
                <a:gridCol w="1814400"/>
                <a:gridCol w="160020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rama and Musical Theat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A1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B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B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B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380880" y="3200400"/>
          <a:ext cx="8534520" cy="188604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387440"/>
                <a:gridCol w="2133720"/>
                <a:gridCol w="1600200"/>
              </a:tblGrid>
              <a:tr h="494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si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U1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AMR1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U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AMR2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U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AMR3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J3M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vocal jazz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U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AMR4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echnological Educ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80880" y="1371600"/>
          <a:ext cx="8458200" cy="180504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4053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chnological Edu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J1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1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DJ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P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DJ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P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380880" y="4114800"/>
          <a:ext cx="8458200" cy="245124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407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terdisciplinary Stud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MS3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DC4U –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w Media:  A Critical Approach to Journalis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anguag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80880" y="1371600"/>
          <a:ext cx="8458200" cy="162252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413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re Fren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SF1P/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SF2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SF3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SF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380880" y="5248440"/>
          <a:ext cx="8534520" cy="1609560"/>
        </p:xfrm>
        <a:graphic>
          <a:graphicData uri="http://schemas.openxmlformats.org/drawingml/2006/table">
            <a:tbl>
              <a:tblPr/>
              <a:tblGrid>
                <a:gridCol w="1706760"/>
                <a:gridCol w="1708200"/>
                <a:gridCol w="1704960"/>
                <a:gridCol w="1708200"/>
                <a:gridCol w="170640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anis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B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C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D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380880" y="3200400"/>
          <a:ext cx="8534520" cy="171468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708200"/>
                <a:gridCol w="1706760"/>
                <a:gridCol w="1706400"/>
              </a:tblGrid>
              <a:tr h="494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mmersion Fren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F1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F2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F3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F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ealth and Physical Educ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04920" y="1523880"/>
          <a:ext cx="8458200" cy="2465640"/>
        </p:xfrm>
        <a:graphic>
          <a:graphicData uri="http://schemas.openxmlformats.org/drawingml/2006/table">
            <a:tbl>
              <a:tblPr/>
              <a:tblGrid>
                <a:gridCol w="1690560"/>
                <a:gridCol w="1967040"/>
                <a:gridCol w="1600200"/>
                <a:gridCol w="1509480"/>
                <a:gridCol w="1690920"/>
              </a:tblGrid>
              <a:tr h="402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ysical Edu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PL1OP/Q/1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PL2OQ/1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F2O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D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PL3OP/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F3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D3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3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PL4OP/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F4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D4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4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SK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uidance and Career Educ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04920" y="1523880"/>
          <a:ext cx="8458200" cy="2135160"/>
        </p:xfrm>
        <a:graphic>
          <a:graphicData uri="http://schemas.openxmlformats.org/drawingml/2006/table">
            <a:tbl>
              <a:tblPr/>
              <a:tblGrid>
                <a:gridCol w="1690560"/>
                <a:gridCol w="1692360"/>
                <a:gridCol w="1692360"/>
                <a:gridCol w="1692000"/>
                <a:gridCol w="1690920"/>
              </a:tblGrid>
              <a:tr h="414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reer Edu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LE1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LE2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LC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WL3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LN4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usiness and Computer Studi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80880" y="1371600"/>
          <a:ext cx="8458200" cy="162252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413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usin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BI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MI3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BB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H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380880" y="3581280"/>
          <a:ext cx="8458200" cy="162252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413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puter Stud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CS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CS3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CS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operative Educ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great opportunity for experiential learnin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y out a job and see how it feel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 periods every second day in the afternoon (COP 3PD*) – 2 credi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 periods every afternoon (COP4PD*) – 4 credi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*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Under Guidance/Career Ed. in Career Cruis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-operative Educ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Picture 6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3429000" cy="2400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"/>
          <p:cNvPicPr/>
          <p:nvPr/>
        </p:nvPicPr>
        <p:blipFill>
          <a:blip r:embed="rId2"/>
          <a:stretch/>
        </p:blipFill>
        <p:spPr>
          <a:xfrm>
            <a:off x="4800600" y="1371600"/>
            <a:ext cx="3486240" cy="24004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2" descr=""/>
          <p:cNvPicPr/>
          <p:nvPr/>
        </p:nvPicPr>
        <p:blipFill>
          <a:blip r:embed="rId3"/>
          <a:stretch/>
        </p:blipFill>
        <p:spPr>
          <a:xfrm>
            <a:off x="914400" y="3962520"/>
            <a:ext cx="3419640" cy="2438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5" descr=""/>
          <p:cNvPicPr/>
          <p:nvPr/>
        </p:nvPicPr>
        <p:blipFill>
          <a:blip r:embed="rId4"/>
          <a:stretch/>
        </p:blipFill>
        <p:spPr>
          <a:xfrm>
            <a:off x="4800600" y="3924360"/>
            <a:ext cx="3495600" cy="24764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HSM – Arts and Culture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igital Medi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" y="2438280"/>
            <a:ext cx="876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ludes a bundle of major and other required credi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aken in grade 11 and grade 1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pprenticeship, College, University, and Workplace pathways avail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ccessful completion leads to a Red Seal on the OSSD plus a program record transcrip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ecff"/>
                </a:solidFill>
                <a:latin typeface="Arial"/>
              </a:rPr>
              <a:t>Credit Counselling Summary</a:t>
            </a:r>
            <a:br>
              <a:rPr sz="4000"/>
            </a:b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Personal Information, Community Involvement, Ont. Literacy Test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876312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SHSM – Arts and Culture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Digital Medi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7" name="Rectangle 43"/>
          <p:cNvGraphicFramePr/>
          <p:nvPr/>
        </p:nvGraphicFramePr>
        <p:xfrm>
          <a:off x="990720" y="1752480"/>
          <a:ext cx="6933960" cy="47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Rectangle 4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6933960" cy="47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 your future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Your Option She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s is a contract for what you want to take next yea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ease research your college and university requirement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ease ask and consider the advice of your teacher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e aware of prerequisite cours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ke an appointment with your guidance counselor to discuss option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 will try to place you in all of your requested cours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f we can not, we will contact you with alternate opportunities or use your alternate choic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Your Option Sheet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57400" y="2209680"/>
            <a:ext cx="61722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Career Cruising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-76320" y="0"/>
          <a:ext cx="9448920" cy="687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0"/>
                    <a:ext cx="944892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Your Option Sheet – </a:t>
            </a:r>
            <a:br>
              <a:rPr sz="2000"/>
            </a:b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Career Cruising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685800" y="990720"/>
          <a:ext cx="7696080" cy="563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990720"/>
                    <a:ext cx="7696080" cy="56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www.colonelby.c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lease see IB course guide online at: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http://ibcb.ca/ibcourseguide20142015.pdf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er Schoo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gistration will begin on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y 1s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gistration can be completed online through Career Cruising.*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f you are taking a summer school course, identify the course in the space provide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ke-up and Reach Ahead option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*Course Selection:  Note on your Course Selection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print ou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your intention to take summer school.  This is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an official summer school registra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ke an appointment with guid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search your option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cuss recommended course levels with teach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ll out a planning shee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derstand your personal balanc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ow will I achieve the strongest success BIG PICTUR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cuss options with parent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se decisions are about you, so do not give up on the opportunity to speak up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urse Selection Due Dat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Thursday, February 18</a:t>
            </a:r>
            <a:r>
              <a:rPr b="1" lang="en-US" sz="3200" spc="-1" strike="noStrike" u="sng" baseline="30000">
                <a:solidFill>
                  <a:srgbClr val="ffffff"/>
                </a:solidFill>
                <a:uFillTx/>
                <a:latin typeface="Verdan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bmit to classroom teacher for this present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geography – grade 9; history – grade 10; TOK – IB1/grade 11; English – grade 11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381880" cy="1245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redit Counselling Summary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Past / Completed Courses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6868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277560"/>
            <a:ext cx="8458200" cy="1245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redit Counselling Summary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Current Courses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534520" cy="26254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33520" y="4876920"/>
            <a:ext cx="815328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277920"/>
            <a:ext cx="8610480" cy="1474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redit Counselling Summary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ccecff"/>
                </a:solidFill>
                <a:latin typeface="Arial"/>
              </a:rPr>
              <a:t>Graduation Criteria</a:t>
            </a:r>
            <a:endParaRPr b="0" lang="en-US" sz="4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52280" y="2819520"/>
            <a:ext cx="899172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ding the Cod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G2D = Grade 10 English Academi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NC 2DF = Grade 10 Science Academic, Immers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FM2P = Grade 10 Math Appli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BI3U = Grade 11 Biology Univers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GJ3M = Grade 11  Communication Tech College/Univers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MI3C = Grade 11 Marketing Colle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F3O = Grade 11 Fitness  Op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do you need for your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ntario Diploma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4 credits in English (1 credit per grad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3 credits in Mathematics (1 credit in Grade 11 or 12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 credits in Sci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credit in Canadian Histo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credit in Canadian Geograph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credit in the Ar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credit in Health and Physical Edu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credit in French as a Second Langu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0.5 credit in Career Stud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0.5 credit in Civ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do you need for your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ntario Diploma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roup 1: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additional credit in English, or French as a Second Language, or a Native language, or a Classical or an International language, or Social Sciences and the Humanities, or Canadian and World Studies, or Guidance and Career Education, or Cooperative Edu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roup 2: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additional credit in Health and Physical Education, or the Arts, or Business Studies, or French as a Second Language, or Cooperative Edu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roup 3: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additional credit in Science (Grade 11 or 12), or Technological Education, or French as a Second Language, or Computer Studies, or Cooperative Edu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0T14:22:03Z</dcterms:created>
  <dc:creator>C30185</dc:creator>
  <dc:description/>
  <dc:language>en-US</dc:language>
  <cp:lastModifiedBy>C40894</cp:lastModifiedBy>
  <dcterms:modified xsi:type="dcterms:W3CDTF">2016-02-09T13:48:28Z</dcterms:modified>
  <cp:revision>92</cp:revision>
  <dc:subject/>
  <dc:title>Option sheets 2014-2015</dc:title>
</cp:coreProperties>
</file>